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0.pct" ContentType="image/x-pict"/>
  <Override PartName="/ppt/media/camera.wav" ContentType="audio/x-wav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.png" ContentType="image/png"/>
  <Override PartName="/ppt/media/image13.pct" ContentType="image/x-pict"/>
  <Override PartName="/ppt/media/image3.png" ContentType="image/png"/>
  <Override PartName="/ppt/media/image14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FB9-4D22-479E-8718-BE49A147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BD4-9E4D-44BA-B7D8-27B822A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8D8-FA19-4D62-8397-8D65D234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0AB-C58E-4BFF-AF70-38E45833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1502-80FD-4598-A258-5E7C6A89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A165-CA2B-4E2F-BCBD-C3E0A9E5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B349-6454-47AF-88E3-67A0B6EC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9EF8-BB04-4410-85AE-07AAC26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BB9B-CE51-4C37-B307-750BB4A5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F53A-620B-48EC-BAAA-A525BD9B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5527-5485-45D7-8235-FCB7306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388-D43E-42AA-9032-CFE0EE76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F82F-1CAB-4B9F-B0AC-CB7AA00C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1500-7659-43A6-ADF3-CCA293F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804E-0DD8-45B8-8E6B-A4B67C2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3F50-C7B4-4CEE-BE0A-B8C079C6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CF1B-23FA-4DE9-80C6-2D97FCD5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6B0-F16B-47B6-83CB-AF8F0C44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3B6-3158-4FD8-94F6-DC2D3054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E52-8F4F-4AC2-B12D-07FF0F5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D7E-BD15-4688-AE7A-D588A596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554-4123-45E4-ABBF-51F5903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E8C-B700-4CDC-ADF1-A28F6CB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139-73BF-46D7-86C8-550F9A6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CA16-1C88-4A86-8E3B-4C4AE360DE5C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DE45-2821-4521-AE22-1B53D59296E3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Comic Sans MS"/>
              </a:rPr>
              <a:t>How to write a story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76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6633"/>
                </a:solidFill>
                <a:latin typeface="Times New Roman"/>
              </a:rPr>
              <a:t>First you have to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who the characters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oing to be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rt of characters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08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3814920"/>
            <a:ext cx="2556000" cy="249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4876920"/>
            <a:ext cx="11336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6854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Next consider 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nd when your story is going to take pl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alled the se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33720" y="4343400"/>
            <a:ext cx="137448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2212920" cy="12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259092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38480" y="5638680"/>
            <a:ext cx="144792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4419720"/>
            <a:ext cx="10670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Pa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5715000"/>
            <a:ext cx="175284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ime for the Problem…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going to happen in your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ain ev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story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213372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1981080" cy="194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24386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Include Important Even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mmary of what happens in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s in th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known as the p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1831680" cy="184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2247840" cy="1753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1567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Finally ….the Solution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all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is 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e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y? S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2406600" cy="193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657600" y="4267080"/>
            <a:ext cx="194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905120" cy="1789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flipH="1" rot="10800000">
            <a:off x="2286000" y="4191120"/>
            <a:ext cx="108576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hink about …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238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57913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3366"/>
                </a:solidFill>
                <a:latin typeface="Poor Richard"/>
              </a:rPr>
              <a:t>These will help you to know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8-07-19T03:52:46Z</dcterms:modified>
  <cp:revision>3</cp:revision>
  <dc:subject/>
  <dc:title>How to write a story</dc:title>
</cp:coreProperties>
</file>